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6F4-6CDD-4F4A-9FB6-73577614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D49-9A57-48DC-ADC1-92F2849A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31F-D08E-4CEF-B6E2-941E28BF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E55-6B58-43C9-B83D-477E0ED1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BB34-71A8-4CF8-8DF2-8AAE86DE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CF3C-EA1F-467A-826E-AD4C6826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E734-F901-4803-921F-AA4E51D0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E21A-BC53-4575-9AC7-004E434A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AE37-6DBF-4E70-B804-45F44FB2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1560-8AE0-4558-9F82-DA7AEC55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0395-B0F3-4A1C-BC07-6BDD01D6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745-F6B3-4F19-B9E5-41B1FAD3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E819-4F6A-4C43-94DC-959093AC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D615-F233-460F-8A74-CE25C390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6D16-8597-4D9B-83D5-7FF1EA84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56AE-38EB-4423-9A06-C0AC94DA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4B6A-AF13-4205-8F16-5731FB4E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53F1-92D4-4C3D-8747-0922EA94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1380-4068-44CD-A3BC-54767D9E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C6547-37F5-42EB-8C4F-782F4E61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FCA1-528E-4476-84EA-41A76282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B0E3F-CACE-428A-8A7D-105A35C3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8C5-E3C9-40FF-92B5-BC5DE8F6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4F48-CF8D-4BB5-9AE1-83CFC014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857B9-6CFF-4B82-A01C-AAD629D1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6917-508A-46E3-80BF-733796F0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E3DCA-28F6-421D-B14C-D6BDED22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41BA-916D-48A9-9720-B277FE06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09A6-730F-455C-8CCE-628ABA79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721E-C3DA-4D00-A489-BE3DADB0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67126-56EA-4DFE-9E34-5ADB0A4F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B8FF8-E56C-4232-8B5A-4D9F4D72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A4E8D-D0D3-42D7-9B29-8A079FBF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48F-4655-4AFB-9156-62BE8AAE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B9F46-E147-42EC-A8B2-B7FF71D3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2DBF8-0302-4527-AEF1-2C3EC790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CB03E-483C-455A-96EA-8D9E7A97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747B-37B4-444A-8ADF-C4808180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6365-C404-46C1-8FAF-2C3F5354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6A202-E5A1-4984-B09E-377C36D9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52A2-4963-452B-AEE4-AF3A86A4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DE21B-E13A-414C-A46D-74C95A0A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04F9-06F9-4F78-AA2C-DF3CB4E5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8E6-2B50-4343-91D2-67D0402F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B7C-DCE8-4117-8183-7222406D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041-AD7B-47AB-B079-90E3606D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A66-351D-4E62-BA23-F1B950F2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E68-EC46-4672-827C-7F0CC109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D209-3563-4F11-B49B-35CC80902A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BD29-A1E6-46F3-968D-C88D82B9D4E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3543-56BF-4657-9E33-A825996DC19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8D2B-2EA1-4D68-B0EB-87DCA5FCC28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17680" y="1352520"/>
            <a:ext cx="7887960" cy="1914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solidFill>
            <a:srgbClr val="f1fbfd"/>
          </a:solidFill>
          <a:ln w="25560">
            <a:solidFill>
              <a:srgbClr val="000000"/>
            </a:solidFill>
            <a:miter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3495c"/>
                </a:solidFill>
                <a:latin typeface="Constantia"/>
              </a:rPr>
              <a:t>By:  Eric R., Bree, Lauren, and Ariel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as energy f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sin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y do they use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newable re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most fr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was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n’t pollute the 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7" descr="http://ga.water.usgs.gov/edu/graphics/wuhytypicalplant.gif"/>
          <p:cNvPicPr/>
          <p:nvPr/>
        </p:nvPicPr>
        <p:blipFill>
          <a:blip r:embed="rId1"/>
          <a:stretch/>
        </p:blipFill>
        <p:spPr>
          <a:xfrm>
            <a:off x="3943440" y="990720"/>
            <a:ext cx="5002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it is used to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as electri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lies 10% of the world’s electri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people are using water po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e to the decreasing amount of fossil fu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Documents and Settings\User\Local Settings\Temporary Internet Files\Content.IE5\9YSMW0G9\MPj04387110000[1].jpg"/>
          <p:cNvPicPr/>
          <p:nvPr/>
        </p:nvPicPr>
        <p:blipFill>
          <a:blip r:embed="rId1"/>
          <a:stretch/>
        </p:blipFill>
        <p:spPr>
          <a:xfrm>
            <a:off x="4648320" y="2787480"/>
            <a:ext cx="4038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water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lar energy heats on the surface causing the water to evapora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water vapor condenses into clouds and falls back into the surface as precipit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water flows through rivers back into the oceans, where it can evaporate and begin the cycle over agai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http://members.optusnet.com.au/benjamink/Water/TheWaterCycleWebQuest_files/watercycle.gif"/>
          <p:cNvPicPr/>
          <p:nvPr/>
        </p:nvPicPr>
        <p:blipFill>
          <a:blip r:embed="rId1"/>
          <a:stretch/>
        </p:blipFill>
        <p:spPr>
          <a:xfrm>
            <a:off x="4699080" y="1752480"/>
            <a:ext cx="44449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water generates pow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dam is built to trap wa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sually in a valley where there is an existing lak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ater is allowed to flow through tunnels in the dam, to tur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urbin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o drive generator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am is much thicker at the bottom than at the top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essure of the water increases with dep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ydro-electric power stations can produce a great deal of power very cheapl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4:32:29Z</dcterms:created>
  <dc:creator> </dc:creator>
  <dc:description/>
  <dc:language>en-US</dc:language>
  <cp:lastModifiedBy> </cp:lastModifiedBy>
  <dcterms:modified xsi:type="dcterms:W3CDTF">2009-04-29T14:59:28Z</dcterms:modified>
  <cp:revision>14</cp:revision>
  <dc:subject/>
  <dc:title>Water Power</dc:title>
</cp:coreProperties>
</file>